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277-2E0D-4B4E-9B4A-351C691E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A1C-7932-4920-B429-626917BB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15A-63CC-4BC1-BF03-C98636CD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0E8-53D7-4FB4-A809-09DB9A5B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110-B005-4A19-BE43-516DC54E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CB3-2BEA-4539-AF86-B84C9713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091-311A-4EC0-B5D9-24255D97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6C0-BE66-4423-8B4D-04D4CB4F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35E-85A0-40B9-B6BA-01CC1E58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D8B-7A18-4927-BEC9-B8EB8DB7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592-627E-420E-AF5C-779EACF7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1C7-55F9-42A9-A29B-1E9F5118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1B76-0E1E-4435-B812-6F57EC951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5229360"/>
            <a:ext cx="792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La tortuga es despacia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5640" y="1143000"/>
            <a:ext cx="46814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5229360"/>
            <a:ext cx="792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La gallina es r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ápida</a:t>
            </a: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1125360"/>
            <a:ext cx="293868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4869000"/>
            <a:ext cx="7920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El elefante es despacio y grand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6911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5229360"/>
            <a:ext cx="792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El león es feroz y fuer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27241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5229360"/>
            <a:ext cx="7920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El canguro es rápido, energético y saltarí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84360" y="47952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4653000"/>
            <a:ext cx="8137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El pez es rápido y peque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ñ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4360" y="355680"/>
            <a:ext cx="49672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55640" y="5229360"/>
            <a:ext cx="7920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El burro es rápido y fuer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16360" y="1268280"/>
            <a:ext cx="282564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609480"/>
            <a:ext cx="75438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a tortuga es despa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a gallina es ráp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l elefante es despacio y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l león es feroz y fue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l canguro es rápido, energético y saltar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l pez es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l burro es rápido, fuerte y rabi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16:41:25Z</dcterms:created>
  <dc:creator>Owner1</dc:creator>
  <dc:description/>
  <dc:language>en-US</dc:language>
  <cp:lastModifiedBy>Owner1</cp:lastModifiedBy>
  <dcterms:modified xsi:type="dcterms:W3CDTF">2008-07-10T16:59:24Z</dcterms:modified>
  <cp:revision>2</cp:revision>
  <dc:subject/>
  <dc:title>Slide 1</dc:title>
</cp:coreProperties>
</file>